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0627-4A8B-4660-B2F6-75E2D1900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41E3-DCF3-4C51-9E81-5450088C8D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DF8C-C5EF-46BA-9856-CC721E0802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6821-CB6C-462A-A08A-C9ED8EB2CB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3296-EDD7-4EA1-9EBD-FE7ECC5B0A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076D-B9EA-4EF5-8263-AB70CB98C0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4802-8FC2-4E48-86C7-AD5C04FB5F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582D-F70D-45CA-8D66-02ACE25332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D5F3-E6BD-41D5-A909-EFEC87294B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8719-7004-4251-BDC4-4B00BA02F4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E2D99-8FC6-46B9-869F-A5D08985CF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3D18F-567D-4F8E-AED3-1BD4316834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8582-71C7-46E7-A3E9-7022DDC097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027A-38C5-4725-AAA4-E9580FF80C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FF39-4095-44C9-9AC0-271D2E86CF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764F-7542-4990-B796-6283D961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891-5182-45CE-84F3-A81AF236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19A-920C-4A6B-B720-CEB959B9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082-702D-4D3C-BDE3-F4FEA9E6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6B2-BBDF-4B2E-81DF-B688278E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A6E-2236-453A-855C-5448839B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6B22-01BC-4641-BEDB-1BE81D55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E611-6B9E-4031-8A6A-84852B8C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2DFA-9B53-4448-B472-F88AD25B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FB70-40CB-4E43-AC32-C50585FD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5435-66D7-4590-9798-AF1E0297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AE9-6632-4A35-ABAA-744D87AA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9905-C71E-4844-ADDE-9A8B7ED157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z at the end for those who need to take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l (Internal)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rior surface moves toward mid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al (External)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erior surface moves away from mid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rotation"/>
          <p:cNvPicPr/>
          <p:nvPr/>
        </p:nvPicPr>
        <p:blipFill>
          <a:blip r:embed="rId1"/>
          <a:stretch/>
        </p:blipFill>
        <p:spPr>
          <a:xfrm>
            <a:off x="4419720" y="1219320"/>
            <a:ext cx="4363920" cy="5502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2103120"/>
            <a:ext cx="4041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forward on plane parallel to 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nch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backward on plane parallel to g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lawn mowe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protract-retract2"/>
          <p:cNvPicPr/>
          <p:nvPr/>
        </p:nvPicPr>
        <p:blipFill>
          <a:blip r:embed="rId1"/>
          <a:stretch/>
        </p:blipFill>
        <p:spPr>
          <a:xfrm>
            <a:off x="4572000" y="1981080"/>
            <a:ext cx="4554360" cy="416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0280" y="2103120"/>
            <a:ext cx="39686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ward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rior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ward 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ove up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move downw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elevation-depression"/>
          <p:cNvPicPr/>
          <p:nvPr/>
        </p:nvPicPr>
        <p:blipFill>
          <a:blip r:embed="rId1"/>
          <a:stretch/>
        </p:blipFill>
        <p:spPr>
          <a:xfrm>
            <a:off x="4572000" y="1600200"/>
            <a:ext cx="4095720" cy="5029200"/>
          </a:xfrm>
          <a:prstGeom prst="rect">
            <a:avLst/>
          </a:prstGeom>
          <a:ln w="0">
            <a:noFill/>
          </a:ln>
        </p:spPr>
      </p:pic>
      <p:sp>
        <p:nvSpPr>
          <p:cNvPr id="88" name="Oval 5"/>
          <p:cNvSpPr/>
          <p:nvPr/>
        </p:nvSpPr>
        <p:spPr>
          <a:xfrm>
            <a:off x="5867280" y="312408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6629400" y="312408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6705720" y="3352680"/>
            <a:ext cx="609480" cy="152640"/>
          </a:xfrm>
          <a:custGeom>
            <a:avLst/>
            <a:gdLst>
              <a:gd name="textAreaLeft" fmla="*/ 106560 w 609480"/>
              <a:gd name="textAreaRight" fmla="*/ 442080 w 60948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5791320" y="3352680"/>
            <a:ext cx="609480" cy="152640"/>
          </a:xfrm>
          <a:custGeom>
            <a:avLst/>
            <a:gdLst>
              <a:gd name="textAreaLeft" fmla="*/ 106560 w 609480"/>
              <a:gd name="textAreaRight" fmla="*/ 442080 w 60948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8284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al Deviation (AB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wrist outwards or away from midlin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iate towards rad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nar Deviation (AD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wrist inwards or towards the midlin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iate towards ul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4" descr="radial-unlar dev"/>
          <p:cNvPicPr/>
          <p:nvPr/>
        </p:nvPicPr>
        <p:blipFill>
          <a:blip r:embed="rId1"/>
          <a:stretch/>
        </p:blipFill>
        <p:spPr>
          <a:xfrm>
            <a:off x="4343400" y="1828800"/>
            <a:ext cx="4788000" cy="4471920"/>
          </a:xfrm>
          <a:prstGeom prst="rect">
            <a:avLst/>
          </a:prstGeom>
          <a:ln w="0">
            <a:noFill/>
          </a:ln>
        </p:spPr>
      </p:pic>
      <p:sp>
        <p:nvSpPr>
          <p:cNvPr id="95" name="Line 5"/>
          <p:cNvSpPr/>
          <p:nvPr/>
        </p:nvSpPr>
        <p:spPr>
          <a:xfrm flipH="1" flipV="1">
            <a:off x="6705720" y="525744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087680" y="54100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 flipV="1">
            <a:off x="5791320" y="5257440"/>
            <a:ext cx="53316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092200" y="5334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Times New Roman"/>
              </a:rPr>
              <a:t>Ul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76680" y="21337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m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in meaning “aroun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ation of flexion/extension and abduction/ad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circumduction"/>
          <p:cNvPicPr/>
          <p:nvPr/>
        </p:nvPicPr>
        <p:blipFill>
          <a:blip r:embed="rId1"/>
          <a:stretch/>
        </p:blipFill>
        <p:spPr>
          <a:xfrm>
            <a:off x="3908520" y="1828800"/>
            <a:ext cx="5235480" cy="263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s are i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agittal Pl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ar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rsi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s are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rontal Pl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lnar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al d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ward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wnward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teral flex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ments are i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ansverse Pl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l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ab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rizontal ad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nk Ro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0280" y="1600200"/>
            <a:ext cx="3754440" cy="42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rcum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r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671480"/>
            <a:ext cx="3608280" cy="388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al b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ar/dorsal 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152360" y="457200"/>
            <a:ext cx="7280280" cy="63244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rectional Terms continu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(cent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ard or in i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psilat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same sid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25440" y="2565000"/>
            <a:ext cx="4761000" cy="32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rnal (periphe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ward or on ex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lat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 opposite sid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3200400" y="2286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3200400" y="342900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838080" y="-3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ex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ing a decrease in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ing an increase in 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flexion"/>
          <p:cNvPicPr/>
          <p:nvPr/>
        </p:nvPicPr>
        <p:blipFill>
          <a:blip r:embed="rId1"/>
          <a:stretch/>
        </p:blipFill>
        <p:spPr>
          <a:xfrm>
            <a:off x="2666880" y="304920"/>
            <a:ext cx="6477120" cy="6553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67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duction (AB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away from midline of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“take awa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uction (AD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ng towards the midline of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“ad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hip abd-add"/>
          <p:cNvPicPr/>
          <p:nvPr/>
        </p:nvPicPr>
        <p:blipFill>
          <a:blip r:embed="rId1"/>
          <a:stretch/>
        </p:blipFill>
        <p:spPr>
          <a:xfrm>
            <a:off x="6934320" y="1676520"/>
            <a:ext cx="2095560" cy="2895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shld_abd-add"/>
          <p:cNvPicPr/>
          <p:nvPr/>
        </p:nvPicPr>
        <p:blipFill>
          <a:blip r:embed="rId2"/>
          <a:stretch/>
        </p:blipFill>
        <p:spPr>
          <a:xfrm>
            <a:off x="4297320" y="1676520"/>
            <a:ext cx="1920960" cy="2895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4347360" y="45720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hou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7927200" y="4572000"/>
            <a:ext cx="63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7623000" y="617220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n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9" descr="finger abd-add"/>
          <p:cNvPicPr/>
          <p:nvPr/>
        </p:nvPicPr>
        <p:blipFill>
          <a:blip r:embed="rId3"/>
          <a:stretch/>
        </p:blipFill>
        <p:spPr>
          <a:xfrm>
            <a:off x="5943600" y="4191120"/>
            <a:ext cx="1644480" cy="2468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103120"/>
            <a:ext cx="4041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ing hand/forearm later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d the soup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ting hand/forearm med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ur the soup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4" descr="pronation-supination"/>
          <p:cNvPicPr/>
          <p:nvPr/>
        </p:nvPicPr>
        <p:blipFill>
          <a:blip r:embed="rId1"/>
          <a:stretch/>
        </p:blipFill>
        <p:spPr>
          <a:xfrm>
            <a:off x="4572000" y="1960560"/>
            <a:ext cx="4156200" cy="451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2103480"/>
            <a:ext cx="396864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ar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toes/foot down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 on tip toe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rsiflex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int toes/foot up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t off the gas ped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4" descr="pf-df"/>
          <p:cNvPicPr/>
          <p:nvPr/>
        </p:nvPicPr>
        <p:blipFill>
          <a:blip r:embed="rId1"/>
          <a:stretch/>
        </p:blipFill>
        <p:spPr>
          <a:xfrm>
            <a:off x="4572000" y="1676520"/>
            <a:ext cx="4203720" cy="487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Joint Ac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0280" y="2103120"/>
            <a:ext cx="39686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of sole of foot in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of sole of foot out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inv-ever"/>
          <p:cNvPicPr/>
          <p:nvPr/>
        </p:nvPicPr>
        <p:blipFill>
          <a:blip r:embed="rId1"/>
          <a:stretch/>
        </p:blipFill>
        <p:spPr>
          <a:xfrm>
            <a:off x="5562720" y="1219320"/>
            <a:ext cx="2092320" cy="5378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3T20:29:04Z</dcterms:created>
  <dc:creator>ashansel</dc:creator>
  <dc:description/>
  <dc:language>en-US</dc:language>
  <cp:lastModifiedBy>Andrew S. Hansell</cp:lastModifiedBy>
  <dcterms:modified xsi:type="dcterms:W3CDTF">2013-09-10T11:11:42Z</dcterms:modified>
  <cp:revision>9</cp:revision>
  <dc:subject/>
  <dc:title>Anatomy</dc:title>
</cp:coreProperties>
</file>